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3.png" ContentType="image/png"/>
  <Override PartName="/ppt/media/image4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995-E760-4C23-ACCB-23C54B9B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73A-E220-4A7D-8561-8A33AF86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C50-0176-4042-9CF9-C22C7834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ECD6-E38F-4F2A-BE48-3195B986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FAC-F48F-425A-A58F-3CDBE67E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9C0-D0FD-4827-AC7A-206BD151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B2B-9BE2-4532-B572-1902B217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D28-888C-49B5-89FC-19514351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D23-466C-4541-90C7-ABB45EF0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86B-EDD0-4705-BD70-EE910A00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3F2-7AEC-4BD5-8CAB-FE8FE0DD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37F-E741-4C70-8F82-852FC908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60F8-1E14-4291-A07D-550FDB5BC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248520"/>
            <a:ext cx="64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2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aps Ga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Random Number Generation and Enumeration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2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2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Random Number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2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2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2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Random Number Gener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ard library header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function prototypes for the conversion of numbers to text and text to numbers, the generation of random numbers and other utility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pseudorandom numbers between 0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_MA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ymbolic constant defined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Random Number Gener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ed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 used to se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termines the sequence of pseudorandom numbers it gene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and( time( 0 )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nerate a different sequence of pseudorandom numbers each time the application r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the current calendar time in seconds since 1/1/1970 00:00: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prototype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tim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ndard Library head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90480" y="1371600"/>
          <a:ext cx="7745400" cy="51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371600"/>
                    <a:ext cx="77454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Random Number Gener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038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modulus operator to generate random numbers within a certain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, followed by the typ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umeration constants start at 0, unless specified otherwise, and increment by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empting to assign another value to an enumeration constant after it has been defined is an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 user-defined (or programmer-defined)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Roll the two dice using random numb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Calculate and display the sum of the two d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Switch based on the sum of the two dic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Case where the sum is 7 or 1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Display the winning mes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Case where the sum is 2, 3 or 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Display the losing mes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Default ca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Set the value of the point to the sum of the dice and display the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While the player has not won or l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Roll the two dice using random numb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Calculate and display the sum of the two d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If the player rolled the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Display the winning mes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If the player rolls a 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Display the losing mes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6960" y="1263600"/>
            <a:ext cx="56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ps 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08200" y="2619360"/>
            <a:ext cx="6230880" cy="1647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5440" y="1614600"/>
            <a:ext cx="76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time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ndard library header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that the application can produce random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438280"/>
            <a:ext cx="19051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time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ndard library head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28195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657600"/>
            <a:ext cx="20574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ndard library head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362320" y="36576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" dur="1" fill="hold"/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/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608200" y="1959120"/>
            <a:ext cx="6230880" cy="1466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ollD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simulates rolling two 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value of the sum of the two 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2960" y="1386000"/>
            <a:ext cx="557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llD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proto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36232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llD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 proto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2666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" dur="1" fill="hold"/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79600" y="1828800"/>
            <a:ext cx="6230880" cy="279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64480" y="1395360"/>
            <a:ext cx="61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constants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ps 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17528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4" dur="1" fill="hold"/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32240" y="2057400"/>
            <a:ext cx="6230880" cy="1628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8160" y="1547640"/>
            <a:ext cx="60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variables to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ps 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133720"/>
            <a:ext cx="1981080" cy="1310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variables to store the result of the most recent dice roll, user’s point and text read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281952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" dur="1" fill="hold"/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32240" y="1954080"/>
            <a:ext cx="6230880" cy="1476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-defined typ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only be one of thre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6640" y="1386000"/>
            <a:ext cx="63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eyword to declare an enume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133720"/>
            <a:ext cx="12956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an enum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43828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7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imulation techniques that employ random-number gener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ath library function to generate random numb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numerations to enhance code readabil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32240" y="2025720"/>
            <a:ext cx="6230880" cy="133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65920" y="1461960"/>
            <a:ext cx="80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variable to store values declared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ume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133720"/>
            <a:ext cx="18288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a variable of typ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" dur="1" fill="hold"/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38280" y="1940040"/>
            <a:ext cx="6230880" cy="1504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( 0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urns the current “calendar time” in seconds sicne 1/1/1970 00:0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5120" y="1461960"/>
            <a:ext cx="73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r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s to seed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514600"/>
            <a:ext cx="1447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e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819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" dur="1" fill="hold"/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2" dur="1" fill="hold"/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79600" y="1940040"/>
            <a:ext cx="6230880" cy="1504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ing the rollDic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ls” two dice, displays their values and returns their 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65080" y="1371600"/>
            <a:ext cx="32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ing” the d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666880"/>
            <a:ext cx="16765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ling” the 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2819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3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4" dur="1" fill="hold"/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55920" y="1905120"/>
            <a:ext cx="6230880" cy="3914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91040" y="1353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895480"/>
            <a:ext cx="12189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ning on the first 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3200400"/>
            <a:ext cx="198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267080"/>
            <a:ext cx="12189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ing on the first 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523880" y="4419360"/>
            <a:ext cx="2057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3" dur="1" fill="hold"/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4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608200" y="1630440"/>
            <a:ext cx="6230880" cy="2124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ing the integer equivalent of an enumeration constant to a variable of the enumeration type is a syntax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560" y="1233360"/>
            <a:ext cx="377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se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057400"/>
            <a:ext cx="23623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must match the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22096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819520"/>
            <a:ext cx="19051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the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3" dur="1" fill="hold"/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79600" y="2286000"/>
            <a:ext cx="6230880" cy="2257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64840" y="1549440"/>
            <a:ext cx="407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ng th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a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2666880"/>
            <a:ext cx="16002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while the user has neither won, nor l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31240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886200"/>
            <a:ext cx="15242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the user to pres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676520" y="365760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3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4" dur="1" fill="hold"/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03640" y="1981080"/>
            <a:ext cx="6230880" cy="2924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88880" y="1471680"/>
            <a:ext cx="64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ing the dice and determining the outcome of a r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251460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ling the dice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2666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3581280"/>
            <a:ext cx="12956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ing the game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447920" y="3657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3" dur="1" fill="hold"/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4" dur="1" fill="hold"/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79600" y="2209680"/>
            <a:ext cx="6230880" cy="2619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88880" y="1447920"/>
            <a:ext cx="49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2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outcome of the g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3124080"/>
            <a:ext cx="21337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the outcome of the g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42900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6" dur="1" fill="hold"/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6240600" cy="2934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65560" y="1486080"/>
            <a:ext cx="45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llD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3048120"/>
            <a:ext cx="22100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local variables to store di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886200"/>
            <a:ext cx="19810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ting two random numbers and storing their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09680" y="39625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5" dur="1" fill="hold"/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6" dur="1" fill="hold"/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55920" y="2209680"/>
            <a:ext cx="6230880" cy="1971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88880" y="1638360"/>
            <a:ext cx="571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llD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590920"/>
            <a:ext cx="14479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the sum of the 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289548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276720"/>
            <a:ext cx="13716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ing the sum of the 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5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6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4280" y="2243160"/>
            <a:ext cx="7974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91400" y="1700280"/>
            <a:ext cx="70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output from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ps 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0"/>
          <a:ext cx="6856560" cy="325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6858000" y="5335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apsGame.cpp (1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990720"/>
            <a:ext cx="24382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time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ndard library head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52480" y="990720"/>
            <a:ext cx="3810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1905120"/>
            <a:ext cx="24386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dtdlib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ndard library head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904760" y="1676160"/>
            <a:ext cx="4190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2895480"/>
            <a:ext cx="37335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llD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 proto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1828440" y="2666520"/>
            <a:ext cx="2590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3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4" dur="1" fill="hold"/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apsGame.cpp (2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2092320"/>
            <a:ext cx="1600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047760" y="22446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31240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3200400"/>
            <a:ext cx="22100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e an enum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657240" y="3352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4572000"/>
            <a:ext cx="33526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a variable o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25744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1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2" dur="1" fill="hold"/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apsGame.cpp (3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152280"/>
            <a:ext cx="22100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ed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209320" y="304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609480"/>
            <a:ext cx="14479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l” the 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057040" y="762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205740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 on the first 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51424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616200"/>
            <a:ext cx="19051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e on the first 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514600" y="37688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7" dur="1" fill="hold"/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8" dur="1" fill="hold"/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apsGame.cpp (4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990720"/>
            <a:ext cx="1523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must match the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266720" y="12189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2244600"/>
            <a:ext cx="2971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until user has won or l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352320" y="23972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3429000"/>
            <a:ext cx="1981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l” the dice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96216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453060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e if user w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0920" y="472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3" dur="1" fill="hold"/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4" dur="1" fill="hold"/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0"/>
          <a:ext cx="6856560" cy="57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apsGame.cpp (5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57200"/>
            <a:ext cx="19814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e if user l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66652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3083040"/>
            <a:ext cx="2133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game out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361960" y="3124080"/>
            <a:ext cx="2438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3" dur="1" fill="hold"/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4" dur="1" fill="hold"/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apsGame.cpp (6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905120" y="45720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248520" y="1676520"/>
            <a:ext cx="23619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e random numbers and calculate their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800600" y="1981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1320" y="274320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the die values and their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10516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3" dur="1" fill="hold"/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4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398680" y="2590920"/>
            <a:ext cx="6288120" cy="1333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1520" y="1790640"/>
            <a:ext cx="49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2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r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being call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124080"/>
            <a:ext cx="2286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ing the call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sing a com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5" dur="1" fill="hold"/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6" dur="1" fill="hold"/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66880" y="2168640"/>
            <a:ext cx="5610240" cy="10476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eed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causes the same output to be displayed each time the application is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2840" y="1638360"/>
            <a:ext cx="769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from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ps 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whe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r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not call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8160" y="1700280"/>
            <a:ext cx="701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an initial appearance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ps 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63760" y="1928880"/>
            <a:ext cx="56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er winning on the first roll by rolling an 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7440" y="2004840"/>
            <a:ext cx="52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er losing on the first roll by rolling a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440" y="1776240"/>
            <a:ext cx="80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er’s first roll setting the point value that the player must match to wi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efore rolling a 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8520" y="1752480"/>
            <a:ext cx="78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er winning the game by matching the point value before rolling a 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63400" y="1776240"/>
            <a:ext cx="682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er losing by rolling a 7 before matching the point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8:41:51Z</dcterms:created>
  <dc:creator>Eric Winokur</dc:creator>
  <dc:description/>
  <dc:language>en-US</dc:language>
  <cp:lastModifiedBy>Pearson Education</cp:lastModifiedBy>
  <dcterms:modified xsi:type="dcterms:W3CDTF">2004-10-11T14:13:34Z</dcterms:modified>
  <cp:revision>178</cp:revision>
  <dc:subject/>
  <dc:title>Tutorial 12 – Craps Game Application: Introducing Random Number Generation and Enumerations</dc:title>
</cp:coreProperties>
</file>